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FB228-0FB2-48DF-B99B-F2C304D9E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99135-2216-4FB4-AF2C-B4F402239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6372D-7EF4-4149-9263-CE6D3ACA3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2B648-6AA4-4273-9E8B-AF7A6BA90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E8AE7-992C-4D57-BE26-2AF3ACC0C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B62F2-4BC7-4A4E-8476-754DB1DE1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27D5D-6051-43DD-B55C-08E8258D4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36ACC-29B4-4F55-A118-6DE68E953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3B147-8090-490A-ADFB-3070EC90F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A8168-6C3F-4B17-B45C-9955C670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25628-BF2E-4676-8CE5-B9F6BF85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C3285-721B-48F7-ABCD-D03604940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C40B2-6B77-481A-8242-76520B61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A341E-6297-46C7-B5D1-9172D92B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16E94-5813-47BE-ABBB-8563538A1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63558-7CD1-45A8-90DC-327D2C89C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17547-FFC6-4328-972A-E13429AC4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94BE2-7BF4-43C5-B04F-FB7BE5038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BEA34-8497-4578-BC00-21BC9A53E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70274-D271-4AB1-8C94-5AF1FD6DD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4258E-5287-4824-89E0-088B66859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C0933-8258-4D80-A60A-9660A351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5B811-3849-4CDF-B870-6FBF6654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D53D4-0BCB-452A-9499-C24D28DC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DBB07-774C-4732-A250-0EC9C5E32361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3F1DC-D6C7-4152-B8F0-7BC4AF253951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144576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2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8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950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Ето колко са блажен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иновете на мира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ъс сърца съединен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ходят дружно в един път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541440" y="1748880"/>
            <a:ext cx="100821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2. Техните сърца сближав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се надеждата една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секи братски прилежав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ругиго да ползув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252360" y="1750320"/>
            <a:ext cx="9577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3. Тъй на хълмите небесн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ред сияе бляс'к Христов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радост, тържества и песн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ълнят въздуха с любов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09-08-29T08:05:49Z</dcterms:modified>
  <cp:revision>163</cp:revision>
  <dc:subject/>
  <dc:title>Slide 1</dc:title>
</cp:coreProperties>
</file>